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E5E0-737B-4D6F-9703-3A29C26B9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B58A7-7C52-41AC-ADF2-AB541376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C0C2-EFF3-4F54-9EAF-72CE3CC23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FD0D-905B-46E9-A713-3BF73DF66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0F9A-2BA9-429D-9855-3C92C084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F5C0-1A2E-4E7F-96D2-52484109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5A07-CBA6-4C1A-BEC1-34E59008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DB57-692A-45B8-B281-161E58309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1142-0560-433B-A2E2-FDA825D6C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C99F-272C-43CB-9808-7AAF4E26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9C11A-3EBE-417D-989D-EBF6AD77A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F840E-5385-4832-BA6E-AEDC5712C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631B4-1D84-401C-BEF3-A2F431AA69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8EA2811-A0C9-4FA2-ADBD-3EAC7A39B1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9F0A3EF-1335-4080-BBBD-2D491487C0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F13156E-5173-47C9-A555-19A921B31C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2E2D9B54-146E-46F1-9963-EBEE1536C4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9D98F06B-8C42-48B4-8DB4-5BF5BE314A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F79A3E6-0882-4AE7-84B0-165652BB99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A7E2E76-5480-496F-9D87-8D10F5B5B6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0C78CE7-F5E3-47E7-B500-FF43D4914A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29238BE-3AE7-40F5-BE50-A9134274D0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7CDBD25-87F0-4D9D-95CC-67FCF23D61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3A4C1CD-5B75-4C41-A91B-BCC309203E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3748-3175-467B-847A-2184368A848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A36A-C5AD-4F69-92E1-34F8CA90A3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FA2D-F505-428B-BFFE-679D3845BB1A}"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70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1</a:t>
            </a:r>
            <a:endParaRPr b="0" lang="en-US" sz="3600" spc="-1" strike="noStrike">
              <a:solidFill>
                <a:srgbClr val="000000"/>
              </a:solidFill>
              <a:latin typeface="Verdana"/>
            </a:endParaRPr>
          </a:p>
        </p:txBody>
      </p:sp>
      <p:sp>
        <p:nvSpPr>
          <p:cNvPr id="157" name="文本框 4"/>
          <p:cNvSpPr/>
          <p:nvPr/>
        </p:nvSpPr>
        <p:spPr>
          <a:xfrm>
            <a:off x="3398760" y="225900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贸易融资</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83E3-F679-42F7-84FC-46AF2E34F7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基本程序</a:t>
            </a:r>
            <a:endParaRPr b="0" lang="en-US" sz="2400" spc="-1" strike="noStrike">
              <a:solidFill>
                <a:srgbClr val="000000"/>
              </a:solidFill>
              <a:latin typeface="Verdana"/>
            </a:endParaRPr>
          </a:p>
        </p:txBody>
      </p:sp>
      <p:sp>
        <p:nvSpPr>
          <p:cNvPr id="190" name="矩形 3"/>
          <p:cNvSpPr/>
          <p:nvPr/>
        </p:nvSpPr>
        <p:spPr>
          <a:xfrm>
            <a:off x="971640" y="1555920"/>
            <a:ext cx="6913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签订协议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购应收账款业务通过下列具体程序进行</a:t>
            </a:r>
            <a:r>
              <a:rPr b="0" lang="zh-CN" sz="1200" spc="-1" strike="noStrike">
                <a:solidFill>
                  <a:srgbClr val="000000"/>
                </a:solidFill>
                <a:latin typeface="微软雅黑"/>
                <a:ea typeface="微软雅黑"/>
              </a:rPr>
              <a:t>:</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出口商以商业信用出卖商品的交易磋商过程中</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首先将进口商的名称及有关交易情况报告本国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出口方的承购应收账款组织将上述资料整理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知进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进口方的承购应收账款组织对进口商资信进行调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将调查结果及可以向进口商提供赊销金额的具体建议通知出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如进口商资信可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向其提供赊销金额建议的数字也可信</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出口方的承购应收账款组织即将调查结果告知出口商</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对出口商与进口商的交易加以确认。</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出口商装运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把有关单据售予出口方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在单据上注明应收账款转让给出口方的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背书</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要求后者支付货款。后者将有关单据寄送进口方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出口商将有关单据售予出口方承购应收账款组织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后者按汇票金额扣除利息和费用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立即在双方商定的日期将货款支付给出口商。</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进口方的承购组织向进口商催收货款</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向出口方承购组织进行划付。</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785B-7AF6-4F5A-AFD8-4AC75EE1828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组织与商业银行的关系</a:t>
            </a:r>
            <a:endParaRPr b="0" lang="en-US" sz="2400" spc="-1" strike="noStrike">
              <a:solidFill>
                <a:srgbClr val="000000"/>
              </a:solidFill>
              <a:latin typeface="Verdana"/>
            </a:endParaRPr>
          </a:p>
        </p:txBody>
      </p:sp>
      <p:sp>
        <p:nvSpPr>
          <p:cNvPr id="193" name="矩形 3"/>
          <p:cNvSpPr/>
          <p:nvPr/>
        </p:nvSpPr>
        <p:spPr>
          <a:xfrm>
            <a:off x="682560" y="1700280"/>
            <a:ext cx="73756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不同于商业银行经营的议付、贴现业务。从事保付代理业务的保付代理商行或商业财务公司是独立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具有独立法人资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中的大多数是由大商业银行出资或在商业银行资助下建立。保付代理业务简单说就是收购债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进票据。与商业银行经营的贴现、议付业务存在区别</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向出口商提供资金的基础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察资信的侧重点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内容不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726B-9917-4444-BC93-D6B9CF3B173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作用</a:t>
            </a:r>
            <a:endParaRPr b="0" lang="en-US" sz="2400" spc="-1" strike="noStrike">
              <a:solidFill>
                <a:srgbClr val="000000"/>
              </a:solidFill>
              <a:latin typeface="Verdana"/>
            </a:endParaRPr>
          </a:p>
        </p:txBody>
      </p:sp>
      <p:sp>
        <p:nvSpPr>
          <p:cNvPr id="196" name="矩形 3"/>
          <p:cNvSpPr/>
          <p:nvPr/>
        </p:nvSpPr>
        <p:spPr>
          <a:xfrm>
            <a:off x="682560" y="1700280"/>
            <a:ext cx="73756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是指出口商以商业信用形式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立即把发票、汇票、提单等有关单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卖断给承购应收账款财务公司或专门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业务。可从出口商、进口商两个角度看保付代理业务的积极作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836640" y="1844640"/>
            <a:ext cx="784872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丰富企业融资手段</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企业通过叙作保理业务将应收账款转让给商业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及早获得较为充足的现金流。</a:t>
            </a:r>
            <a:endParaRPr b="0" lang="en-US" sz="1800" spc="-1" strike="noStrike">
              <a:solidFill>
                <a:srgbClr val="000000"/>
              </a:solidFill>
              <a:latin typeface="Verdana"/>
            </a:endParaRPr>
          </a:p>
        </p:txBody>
      </p:sp>
      <p:sp>
        <p:nvSpPr>
          <p:cNvPr id="198" name="矩形 3"/>
          <p:cNvSpPr/>
          <p:nvPr/>
        </p:nvSpPr>
        <p:spPr>
          <a:xfrm>
            <a:off x="846000" y="3571920"/>
            <a:ext cx="7839360" cy="85572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2.</a:t>
            </a:r>
            <a:r>
              <a:rPr b="1" lang="zh-CN" sz="1800" spc="-1" strike="noStrike">
                <a:solidFill>
                  <a:srgbClr val="000000"/>
                </a:solidFill>
                <a:latin typeface="Verdana"/>
                <a:ea typeface="微软雅黑"/>
              </a:rPr>
              <a:t>增强我国商业银行综合竞争能力</a:t>
            </a:r>
            <a:r>
              <a:rPr b="0" lang="en-US" sz="1800" spc="-1" strike="noStrike">
                <a:solidFill>
                  <a:srgbClr val="000000"/>
                </a:solidFill>
                <a:latin typeface="Verdana"/>
                <a:ea typeface="微软雅黑"/>
              </a:rPr>
              <a:t>   </a:t>
            </a:r>
            <a:r>
              <a:rPr b="0" lang="zh-CN" sz="1800" spc="-1" strike="noStrike">
                <a:solidFill>
                  <a:srgbClr val="000000"/>
                </a:solidFill>
                <a:latin typeface="Verdana"/>
                <a:ea typeface="微软雅黑"/>
              </a:rPr>
              <a:t>银行迎合企业的需求开展国内保理业务</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既可以解决销售商的燃眉之急</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缓解企业资金压力</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又为自身开辟了业务领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增加了业务品种和经营效益。</a:t>
            </a:r>
            <a:endParaRPr b="0" lang="en-US" sz="18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EFAF-B2A6-417A-BA2F-241AFB38B9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文本框 4"/>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在我国开展的情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D5BF-19A1-4D3E-8053-49E0FC3E6D1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内保理发展的优势与风险</a:t>
            </a:r>
            <a:endParaRPr b="0" lang="en-US" sz="2400" spc="-1" strike="noStrike">
              <a:solidFill>
                <a:srgbClr val="000000"/>
              </a:solidFill>
              <a:latin typeface="Verdana"/>
            </a:endParaRPr>
          </a:p>
        </p:txBody>
      </p:sp>
      <p:sp>
        <p:nvSpPr>
          <p:cNvPr id="203" name="矩形 3"/>
          <p:cNvSpPr/>
          <p:nvPr/>
        </p:nvSpPr>
        <p:spPr>
          <a:xfrm>
            <a:off x="682560" y="1700280"/>
            <a:ext cx="73756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商业银行开展国内保理业务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内客户资源丰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客户对商业银行提供国内保理业务需求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商业银行积累了开展国内保理业务经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商业银行具有开展国内保理业务的机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内保理业务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相关法律法规不完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定位较为单一</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操作不规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3"/>
          <p:cNvSpPr/>
          <p:nvPr/>
        </p:nvSpPr>
        <p:spPr>
          <a:xfrm>
            <a:off x="4800600" y="2440080"/>
            <a:ext cx="43196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出口信贷与福费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出口信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福费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7AAE-1057-4F80-84C2-C9141A440AB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界定</a:t>
            </a:r>
            <a:endParaRPr b="0" lang="en-US" sz="2400" spc="-1" strike="noStrike">
              <a:solidFill>
                <a:srgbClr val="000000"/>
              </a:solidFill>
              <a:latin typeface="Verdana"/>
            </a:endParaRPr>
          </a:p>
        </p:txBody>
      </p:sp>
      <p:sp>
        <p:nvSpPr>
          <p:cNvPr id="211" name="矩形 5"/>
          <p:cNvSpPr/>
          <p:nvPr/>
        </p:nvSpPr>
        <p:spPr>
          <a:xfrm>
            <a:off x="971640" y="1773360"/>
            <a:ext cx="7632720" cy="8557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出口信贷是国际贸易中借贷资本运动的一种形式。它是一个国家为支持和扩大本国大型设备的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该国的出口信贷机构通过直接向本国出口商或外国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利率较低的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是通过担保、保险或给予利率补贴鼓励本国商业银行对本国的出口商或国外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中长期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解决本国出口商资金周转的困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满足国外进口商对本国出口商品的延期支付货款需要的一种融资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10"/>
                                        </p:tgtEl>
                                        <p:attrNameLst>
                                          <p:attrName>style.visibility</p:attrName>
                                        </p:attrNameLst>
                                      </p:cBhvr>
                                      <p:to>
                                        <p:strVal val="visible"/>
                                      </p:to>
                                    </p:set>
                                    <p:animEffect filter="barn(inVertical)" transition="in">
                                      <p:cBhvr additive="repl">
                                        <p:cTn id="57" dur="250"/>
                                        <p:tgtEl>
                                          <p:spTgt spid="210"/>
                                        </p:tgtEl>
                                      </p:cBhvr>
                                    </p:animEffect>
                                  </p:childTnLst>
                                </p:cTn>
                              </p:par>
                              <p:par>
                                <p:cTn id="58" dur="indefinite" nodeType="withEffect" fill="hold" presetClass="entr" presetID="16" presetSubtype="21">
                                  <p:stCondLst>
                                    <p:cond delay="0"/>
                                  </p:stCondLst>
                                  <p:childTnLst>
                                    <p:set>
                                      <p:cBhvr>
                                        <p:cTn id="59" dur="1" fill="hold">
                                          <p:stCondLst>
                                            <p:cond delay="0"/>
                                          </p:stCondLst>
                                        </p:cTn>
                                        <p:tgtEl>
                                          <p:spTgt spid="211"/>
                                        </p:tgtEl>
                                        <p:attrNameLst>
                                          <p:attrName>style.visibility</p:attrName>
                                        </p:attrNameLst>
                                      </p:cBhvr>
                                      <p:to>
                                        <p:strVal val="visible"/>
                                      </p:to>
                                    </p:set>
                                    <p:animEffect filter="barn(inVertical)" transition="in">
                                      <p:cBhvr additive="repl">
                                        <p:cTn id="60" dur="25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755640" y="1628640"/>
            <a:ext cx="7129440" cy="42843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利率低</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低利率正是出口信贷的吸引力所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此扩大了资本货物的世界市场份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银行并不承担利息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口国政府提供资金帮助出口商销售资本或货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政府承担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一般设有国家信贷保险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银行发放的出口信贷给予担保。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贷款限定用途</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出口信贷同购买贷款国的出口商品相联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设立专门机构管理出口信贷资金</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专门设立的信贷机构一般是在出口信贷金额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银行信贷资金不足或无力提供全部资金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发放出口信贷来支持出口。</a:t>
            </a:r>
            <a:endParaRPr b="0" lang="en-US" sz="2000" spc="-1" strike="noStrike">
              <a:solidFill>
                <a:srgbClr val="000000"/>
              </a:solidFill>
              <a:latin typeface="Verdana"/>
            </a:endParaRPr>
          </a:p>
        </p:txBody>
      </p:sp>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43E8-3720-4E71-9C72-50AA4BE5830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9046-4CBA-404C-B664-6A293E45DF8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买方信贷</a:t>
            </a:r>
            <a:endParaRPr b="0" lang="en-US" sz="2400" spc="-1" strike="noStrike">
              <a:solidFill>
                <a:srgbClr val="000000"/>
              </a:solidFill>
              <a:latin typeface="Verdana"/>
            </a:endParaRPr>
          </a:p>
        </p:txBody>
      </p:sp>
      <p:sp>
        <p:nvSpPr>
          <p:cNvPr id="218" name="矩形 2"/>
          <p:cNvSpPr/>
          <p:nvPr/>
        </p:nvSpPr>
        <p:spPr>
          <a:xfrm>
            <a:off x="395280" y="1628640"/>
            <a:ext cx="7920000" cy="85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买方信贷是指出口国金融机构向进口国银行、政府或进口商提供的一种中长期贸易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旨在鼓励进口国购买本国资本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同时可确保出口商在贸易合同中能够即期收汇。买方信贷有时也称为设备采购贷款。买方信贷可由出口国银行直接贷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贷给进口商所在地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后一种方式使用较多。</a:t>
            </a:r>
            <a:endParaRPr b="0" lang="en-US" sz="1800" spc="-1" strike="noStrike">
              <a:solidFill>
                <a:srgbClr val="000000"/>
              </a:solidFill>
              <a:latin typeface="Verdana"/>
            </a:endParaRPr>
          </a:p>
        </p:txBody>
      </p:sp>
      <p:pic>
        <p:nvPicPr>
          <p:cNvPr id="219" name="1101.jpg" descr="id:2147492998;FounderCES"/>
          <p:cNvPicPr/>
          <p:nvPr/>
        </p:nvPicPr>
        <p:blipFill>
          <a:blip r:embed="rId1"/>
          <a:stretch/>
        </p:blipFill>
        <p:spPr>
          <a:xfrm>
            <a:off x="797040" y="3643200"/>
            <a:ext cx="7458120" cy="20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C568-BE99-4405-94A2-B4374B539DA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卖方信贷</a:t>
            </a:r>
            <a:endParaRPr b="0" lang="en-US" sz="2400" spc="-1" strike="noStrike">
              <a:solidFill>
                <a:srgbClr val="000000"/>
              </a:solidFill>
              <a:latin typeface="Verdana"/>
            </a:endParaRPr>
          </a:p>
        </p:txBody>
      </p:sp>
      <p:sp>
        <p:nvSpPr>
          <p:cNvPr id="223" name="矩形 2"/>
          <p:cNvSpPr/>
          <p:nvPr/>
        </p:nvSpPr>
        <p:spPr>
          <a:xfrm>
            <a:off x="395280" y="1628640"/>
            <a:ext cx="7920000" cy="31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微软雅黑"/>
                <a:ea typeface="微软雅黑"/>
              </a:rPr>
              <a:t>卖方信贷是指出口国金融机构向本国出口商提供的一种中长期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使出口商能够在大型资本货物交易合同中向进口商提供延期付款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所以又常被称为延期付款方式。</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货物出口</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签订贸易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以延期支付方式向进口商出售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为大型设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在签订使用延期收汇方式的贸易合同之前要取得银行贷款的承诺。</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延期付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合同成立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先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现汇定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分批交货、验收和保证期满时再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货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余货款在全部交货后若干年内分期偿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每半年还款</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偿还延期付款期间的利息。</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优惠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及时向所在地银行提交卖方信贷申请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具延期支付出口贸易合同、进口商担保银行付款保函或远期信用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及国内生产或收购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签订贷款协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获得优惠贷款融通资金。</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还本付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偿还出口商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支付利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再归还银行贷款本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由出口商所在地银行代表出口商按期向国外进口商收取贷款本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84160" y="1773360"/>
            <a:ext cx="735984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贸易融资的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保付代理业务、福费廷业务的概念、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出口信贷、保护代理业务、福费廷业务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卖方信贷和买方信贷的比较</a:t>
            </a:r>
            <a:endParaRPr b="0" lang="en-US" sz="2800" spc="-1" strike="noStrike">
              <a:solidFill>
                <a:srgbClr val="000000"/>
              </a:solidFill>
              <a:latin typeface="Verdana"/>
            </a:endParaRPr>
          </a:p>
        </p:txBody>
      </p:sp>
      <p:sp>
        <p:nvSpPr>
          <p:cNvPr id="22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41F0-D75F-4EEF-9922-1D6DB70AF21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矩形 3"/>
          <p:cNvSpPr/>
          <p:nvPr/>
        </p:nvSpPr>
        <p:spPr>
          <a:xfrm>
            <a:off x="900000" y="1413000"/>
            <a:ext cx="7129440" cy="85572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卖方信贷与买方信贷是出口信贷的两种形式</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它们各有特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将两者进行比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选择最佳的融资方式</a:t>
            </a:r>
            <a:endParaRPr b="0" lang="en-US" sz="1800" spc="-1" strike="noStrike">
              <a:solidFill>
                <a:srgbClr val="000000"/>
              </a:solidFill>
              <a:latin typeface="Verdana"/>
            </a:endParaRPr>
          </a:p>
        </p:txBody>
      </p:sp>
      <p:sp>
        <p:nvSpPr>
          <p:cNvPr id="228" name="文本框 5"/>
          <p:cNvSpPr/>
          <p:nvPr/>
        </p:nvSpPr>
        <p:spPr>
          <a:xfrm>
            <a:off x="996840" y="2556000"/>
            <a:ext cx="65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卖方信贷存在两层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一是由银行对本国的出口商提供信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所在地银行与出口商之间的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银行对出口商提供的银行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二是再由出口商向外国进口商提供延期付款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与进口商之间因延期付款产生的实际货款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出口商对进口商提供的商业信用。按照卖方信贷的安排</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信贷风险的实际承担责任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卖方信贷还是属于商业信用。因为即使是银行代替出口商按期向国外进口商收取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果因种种原因银行未能从国外进口商处收到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它仍保留对出口商的追索权。</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买方信贷却不同。多数情况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是由出口商所在地银行通过签订贷款协议的方式直接贷款给进口商所在地银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之后再由它转贷给进口商。进口商所在地银行代替进口商向出口商支付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根据贷款协议的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按期向出口商所在地银行归还贷款与利息</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这一点上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属于银行信用。</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2" presetSubtype="4">
                                  <p:stCondLst>
                                    <p:cond delay="0"/>
                                  </p:stCondLst>
                                  <p:childTnLst>
                                    <p:set>
                                      <p:cBhvr>
                                        <p:cTn id="66" dur="1" fill="hold">
                                          <p:stCondLst>
                                            <p:cond delay="0"/>
                                          </p:stCondLst>
                                        </p:cTn>
                                        <p:tgtEl>
                                          <p:spTgt spid="227"/>
                                        </p:tgtEl>
                                        <p:attrNameLst>
                                          <p:attrName>style.visibility</p:attrName>
                                        </p:attrNameLst>
                                      </p:cBhvr>
                                      <p:to>
                                        <p:strVal val="visible"/>
                                      </p:to>
                                    </p:set>
                                    <p:animEffect filter="wipe(down)" transition="in">
                                      <p:cBhvr additive="repl">
                                        <p:cTn id="67" dur="25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8C47-1149-43DD-9C59-5CDDBA38CD9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a:t>
            </a:r>
            <a:endParaRPr b="0" lang="en-US" sz="2400" spc="-1" strike="noStrike">
              <a:solidFill>
                <a:srgbClr val="000000"/>
              </a:solidFill>
              <a:latin typeface="Verdana"/>
            </a:endParaRPr>
          </a:p>
        </p:txBody>
      </p:sp>
      <p:sp>
        <p:nvSpPr>
          <p:cNvPr id="23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矩形 1"/>
          <p:cNvSpPr/>
          <p:nvPr/>
        </p:nvSpPr>
        <p:spPr>
          <a:xfrm>
            <a:off x="944640" y="1874880"/>
            <a:ext cx="75596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仿宋"/>
                <a:ea typeface="仿宋"/>
              </a:rPr>
              <a:t>    </a:t>
            </a:r>
            <a:r>
              <a:rPr b="0" lang="zh-CN" sz="1800" spc="-1" strike="noStrike">
                <a:solidFill>
                  <a:srgbClr val="000000"/>
                </a:solidFill>
                <a:latin typeface="仿宋"/>
                <a:ea typeface="仿宋"/>
              </a:rPr>
              <a:t>福费廷是在延期付款的大型设备贸易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出口商把经过进口商所在地银行承兑的远期汇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无追索权地出售给出口商所在地相应的金融机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提前取得现款的一种出口信贷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31"/>
                                        </p:tgtEl>
                                        <p:attrNameLst>
                                          <p:attrName>style.visibility</p:attrName>
                                        </p:attrNameLst>
                                      </p:cBhvr>
                                      <p:to>
                                        <p:strVal val="visible"/>
                                      </p:to>
                                    </p:set>
                                    <p:animEffect filter="barn(inVertical)" transition="in">
                                      <p:cBhvr additive="repl">
                                        <p:cTn id="74" dur="500"/>
                                        <p:tgtEl>
                                          <p:spTgt spid="23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1">
                                  <p:stCondLst>
                                    <p:cond delay="0"/>
                                  </p:stCondLst>
                                  <p:childTnLst>
                                    <p:set>
                                      <p:cBhvr>
                                        <p:cTn id="78" dur="1" fill="hold">
                                          <p:stCondLst>
                                            <p:cond delay="0"/>
                                          </p:stCondLst>
                                        </p:cTn>
                                        <p:tgtEl>
                                          <p:spTgt spid="233"/>
                                        </p:tgtEl>
                                        <p:attrNameLst>
                                          <p:attrName>style.visibility</p:attrName>
                                        </p:attrNameLst>
                                      </p:cBhvr>
                                      <p:to>
                                        <p:strVal val="visible"/>
                                      </p:to>
                                    </p:set>
                                    <p:animEffect filter="barn(inVertical)" transition="in">
                                      <p:cBhvr additive="repl">
                                        <p:cTn id="7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CE5A-8BAD-4C0A-92FD-19FA2CD7DE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250920" y="1763640"/>
            <a:ext cx="8091360" cy="29365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一般在机器设备等资本货物国际贸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进行贸易谈判</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确定采用延期付款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a:t>
            </a:r>
            <a:r>
              <a:rPr b="0" lang="zh-CN" sz="1800" spc="-1" strike="noStrike">
                <a:solidFill>
                  <a:srgbClr val="000000"/>
                </a:solidFill>
                <a:latin typeface="微软雅黑"/>
                <a:ea typeface="微软雅黑"/>
              </a:rPr>
              <a:t>5~10</a:t>
            </a:r>
            <a:r>
              <a:rPr b="0" lang="zh-CN" sz="1800" spc="-1" strike="noStrike">
                <a:solidFill>
                  <a:srgbClr val="000000"/>
                </a:solidFill>
                <a:latin typeface="微软雅黑"/>
                <a:ea typeface="微软雅黑"/>
              </a:rPr>
              <a:t>年内付清货款。如果出口商资金不足</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与进口商商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福费廷。</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出口商与当地办理福费廷业务的金融机构联系</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该机构在做出承诺之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要了解以下情况</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融资的货币、金额、期限</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人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期票或汇票的金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期日和付款地</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货、交单的日期</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形式是背书还是保函</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他必要的手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进口许可证等</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福费廷融资者对各项条件都已经满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给出一个意向性的承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事先做好必要的信贷安排。</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出口商开立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进口商往来银行担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保证在进口商不能履行支付义务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该银行付款。担保银行必须是信誉卓著的一流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已取得办理福费廷的金融机构认可。</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出口商在交付货物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全套货运单据通过银行寄送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中由出口商签发的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进口商承兑以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再退回出口商。</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出口商按事先约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经承兑和担保的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无追索权地出售给办理福费廷业务的金融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取得现款。</a:t>
            </a:r>
            <a:endParaRPr b="0" lang="en-US" sz="1800" spc="-1" strike="noStrike">
              <a:solidFill>
                <a:srgbClr val="000000"/>
              </a:solidFill>
              <a:latin typeface="Verdana"/>
            </a:endParaRPr>
          </a:p>
        </p:txBody>
      </p:sp>
      <p:sp>
        <p:nvSpPr>
          <p:cNvPr id="23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业务操作程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16" presetSubtype="21">
                                  <p:stCondLst>
                                    <p:cond delay="0"/>
                                  </p:stCondLst>
                                  <p:childTnLst>
                                    <p:set>
                                      <p:cBhvr>
                                        <p:cTn id="85" dur="1" fill="hold">
                                          <p:stCondLst>
                                            <p:cond delay="0"/>
                                          </p:stCondLst>
                                        </p:cTn>
                                        <p:tgtEl>
                                          <p:spTgt spid="236"/>
                                        </p:tgtEl>
                                        <p:attrNameLst>
                                          <p:attrName>style.visibility</p:attrName>
                                        </p:attrNameLst>
                                      </p:cBhvr>
                                      <p:to>
                                        <p:strVal val="visible"/>
                                      </p:to>
                                    </p:set>
                                    <p:animEffect filter="barn(inVertical)" transition="in">
                                      <p:cBhvr additive="repl">
                                        <p:cTn id="8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5244-FB59-437C-8588-C7C938CFD64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5"/>
          <p:cNvSpPr/>
          <p:nvPr/>
        </p:nvSpPr>
        <p:spPr>
          <a:xfrm>
            <a:off x="755640" y="1628640"/>
            <a:ext cx="69850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在福费廷中</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必须放弃对贴现凭证的一切权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福费廷方也必须放弃对出口商的追索权。</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出口商必须对资本货物的数量、质量、装运、交货期担负全部责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福费廷的期限一般在</a:t>
            </a:r>
            <a:r>
              <a:rPr b="0" lang="zh-CN" sz="2000" spc="-1" strike="noStrike">
                <a:solidFill>
                  <a:srgbClr val="000000"/>
                </a:solidFill>
                <a:latin typeface="仿宋"/>
                <a:ea typeface="仿宋"/>
              </a:rPr>
              <a:t>1~5</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于中期融资业务。福费廷业务最短的为</a:t>
            </a:r>
            <a:r>
              <a:rPr b="0" lang="zh-CN" sz="2000" spc="-1" strike="noStrike">
                <a:solidFill>
                  <a:srgbClr val="000000"/>
                </a:solidFill>
                <a:latin typeface="仿宋"/>
                <a:ea typeface="仿宋"/>
              </a:rPr>
              <a:t>180</a:t>
            </a:r>
            <a:r>
              <a:rPr b="0" lang="zh-CN" sz="2000" spc="-1" strike="noStrike">
                <a:solidFill>
                  <a:srgbClr val="000000"/>
                </a:solidFill>
                <a:latin typeface="仿宋"/>
                <a:ea typeface="仿宋"/>
              </a:rPr>
              <a:t>天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个月</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最长的可至</a:t>
            </a:r>
            <a:r>
              <a:rPr b="0" lang="zh-CN" sz="2000" spc="-1" strike="noStrike">
                <a:solidFill>
                  <a:srgbClr val="000000"/>
                </a:solidFill>
                <a:latin typeface="仿宋"/>
                <a:ea typeface="仿宋"/>
              </a:rPr>
              <a:t>1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还款方式一般采用每半年偿还</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福费廷多以美元为结算和融资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其他可自由兑换的货币用得较少。福费廷收费较高</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批发性融资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适合于</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万美元以上的大中型出口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福费廷没有官方出口信贷机构或者私人保险公司提供的保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福费廷需由进口商所在地银行或其他金融机构提供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800600" y="2440080"/>
            <a:ext cx="43196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对外贸易融资</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5EDB-7E96-4183-BE85-08EDE0DC16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5"/>
          <p:cNvSpPr/>
          <p:nvPr/>
        </p:nvSpPr>
        <p:spPr>
          <a:xfrm>
            <a:off x="971640" y="1989000"/>
            <a:ext cx="7056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押汇是指开证行在收到信用证项下单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审单无误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其与开证申请人签订的《进口押汇协议》和开证申请人提交的信托收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付款并放单。开证申请人凭单提货并在市场销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将押汇本息归还给开证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进口押汇是开证行给予开证申请人的一种将远期信用证转化为即期信用证的变通的资金融通方式。进口押汇是建立在银行负有第一性付款责任的信用证业务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如果单单相符、单证一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使开证申请人不付款</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开证行也必须履行对外付款的义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7807-62BE-4DCE-AB70-C741C87AF1C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托收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托收押汇是指代收行在收到出口商通过托收行寄来的全套托收单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进口商提交的押汇申请、信托收据以及代收行与进口商签订的《进口托收押汇协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支付并放单</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凭单提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用销售后的货款归还代收行押汇本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E342-C1E3-4E79-BF7E-7BA7EB16AC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限额内透支</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限额内透支是指银行根据客户的资信情况和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押、担保情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为客户在其银行往来账户上核定一个透支额度</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允许客户根据资金需求在限额内透支</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可以用正常经营中的销售收入自动冲减透支余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7"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保理</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出口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卖方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A48A-62BD-46CB-881E-E418F09F50A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70" name="矩形 3"/>
          <p:cNvSpPr/>
          <p:nvPr/>
        </p:nvSpPr>
        <p:spPr>
          <a:xfrm>
            <a:off x="793800" y="1916280"/>
            <a:ext cx="763272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保付代理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可分为哪些类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福费廷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何进行操作</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买方信贷和卖方信贷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福费廷与保付代理业务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D7C3-DAAC-4D4D-946A-950F3FBB718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贸易融资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短期国际贸易融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长期国际贸易融资</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74640" y="1682640"/>
            <a:ext cx="7705800" cy="29365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在进出口贸易过程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贸易双方都需要得到资金融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出口商在签订出口合同到货物出口这段时间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货物出口后到收齐全部货款阶段也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口商向出口商预付货款或开立信用证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到出口商的货物到出售货物实现利润之前也需要资金。国际贸易过程中进出口商得到资金融通叫做国际贸易融资。</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从融资的时间来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下的称为短期贸易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上的称为中长期贸易融资。国际贸易融资有多种实现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进出口商之间互相提供资金融通称为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银行及其他金融机构提供的资金融通称为银行信用。银行信用是商业信用的基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国际贸易融资的主体。</a:t>
            </a:r>
            <a:endParaRPr b="0" lang="en-US" sz="20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0538-A519-4F70-BFBF-38DE9A201E9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短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166"/>
                                        </p:tgtEl>
                                        <p:attrNameLst>
                                          <p:attrName>style.visibility</p:attrName>
                                        </p:attrNameLst>
                                      </p:cBhvr>
                                      <p:to>
                                        <p:strVal val="visible"/>
                                      </p:to>
                                    </p:set>
                                    <p:animEffect filter="wipe(down)" transition="in">
                                      <p:cBhvr additive="repl">
                                        <p:cTn id="7" dur="250"/>
                                        <p:tgtEl>
                                          <p:spTgt spid="166"/>
                                        </p:tgtEl>
                                      </p:cBhvr>
                                    </p:animEffect>
                                  </p:childTnLst>
                                </p:cTn>
                              </p:par>
                              <p:par>
                                <p:cTn id="8" dur="indefinite" nodeType="withEffect" fill="hold" presetClass="entr" presetID="22" presetSubtype="4">
                                  <p:stCondLst>
                                    <p:cond delay="0"/>
                                  </p:stCondLst>
                                  <p:childTnLst>
                                    <p:set>
                                      <p:cBhvr>
                                        <p:cTn id="9" dur="1" fill="hold">
                                          <p:stCondLst>
                                            <p:cond delay="0"/>
                                          </p:stCondLst>
                                        </p:cTn>
                                        <p:tgtEl>
                                          <p:spTgt spid="168"/>
                                        </p:tgtEl>
                                        <p:attrNameLst>
                                          <p:attrName>style.visibility</p:attrName>
                                        </p:attrNameLst>
                                      </p:cBhvr>
                                      <p:to>
                                        <p:strVal val="visible"/>
                                      </p:to>
                                    </p:set>
                                    <p:animEffect filter="wipe(down)"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674640" y="1682640"/>
            <a:ext cx="77058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由于短期国际贸易融资期限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般用于满足周转快、成交金额相对不大的商品贸易资金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于一些周转期限长、成交金额大的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大型机电设备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更长时间的融资支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出现了中长期国际贸易融资。国际贸易中长期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仅是一种融资手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争夺产品出口市场的一种竞争手段。中长期国际贸易融资主要包括出口信贷、福费廷、出口信用保险等。</a:t>
            </a:r>
            <a:endParaRPr b="0" lang="en-US" sz="20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9437-4813-4FE9-8547-E2308F2C504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中长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69"/>
                                        </p:tgtEl>
                                        <p:attrNameLst>
                                          <p:attrName>style.visibility</p:attrName>
                                        </p:attrNameLst>
                                      </p:cBhvr>
                                      <p:to>
                                        <p:strVal val="visible"/>
                                      </p:to>
                                    </p:set>
                                    <p:animEffect filter="wipe(down)" transition="in">
                                      <p:cBhvr additive="repl">
                                        <p:cTn id="17" dur="250"/>
                                        <p:tgtEl>
                                          <p:spTgt spid="169"/>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71"/>
                                        </p:tgtEl>
                                        <p:attrNameLst>
                                          <p:attrName>style.visibility</p:attrName>
                                        </p:attrNameLst>
                                      </p:cBhvr>
                                      <p:to>
                                        <p:strVal val="visible"/>
                                      </p:to>
                                    </p:set>
                                    <p:animEffect filter="wipe(down)" transition="in">
                                      <p:cBhvr additive="repl">
                                        <p:cTn id="20"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付代理业务</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概述</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内容、特点和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组织与商业银行的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理业务在我国开展的情况</a:t>
            </a:r>
            <a:endParaRPr b="0" lang="en-US" sz="2000" spc="-1" strike="noStrike">
              <a:solidFill>
                <a:srgbClr val="000000"/>
              </a:solidFill>
              <a:latin typeface="Verdana"/>
            </a:endParaRPr>
          </a:p>
        </p:txBody>
      </p:sp>
      <p:sp>
        <p:nvSpPr>
          <p:cNvPr id="17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3"/>
          <p:cNvSpPr/>
          <p:nvPr/>
        </p:nvSpPr>
        <p:spPr>
          <a:xfrm>
            <a:off x="674640" y="1682640"/>
            <a:ext cx="770580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保付代理业务肇始于英国工业革命时期</a:t>
            </a:r>
            <a:r>
              <a:rPr b="0" lang="zh-CN" sz="2000" spc="-1" strike="noStrike">
                <a:solidFill>
                  <a:srgbClr val="000000"/>
                </a:solidFill>
                <a:latin typeface="微软雅黑"/>
                <a:ea typeface="微软雅黑"/>
              </a:rPr>
              <a:t>,19</a:t>
            </a:r>
            <a:r>
              <a:rPr b="0" lang="zh-CN" sz="2000" spc="-1" strike="noStrike">
                <a:solidFill>
                  <a:srgbClr val="000000"/>
                </a:solidFill>
                <a:latin typeface="微软雅黑"/>
                <a:ea typeface="微软雅黑"/>
              </a:rPr>
              <a:t>世纪在欧洲大陆发展起来</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在美国的业务量也逐渐增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第二次世界大战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各发达国家获得进一步扩展。国际保理</a:t>
            </a:r>
            <a:r>
              <a:rPr b="0" lang="zh-CN" sz="2000" spc="-1" strike="noStrike">
                <a:solidFill>
                  <a:srgbClr val="000000"/>
                </a:solidFill>
                <a:latin typeface="微软雅黑"/>
                <a:ea typeface="微软雅黑"/>
              </a:rPr>
              <a:t>(International Factoring),</a:t>
            </a:r>
            <a:r>
              <a:rPr b="0" lang="zh-CN" sz="2000" spc="-1" strike="noStrike">
                <a:solidFill>
                  <a:srgbClr val="000000"/>
                </a:solidFill>
                <a:latin typeface="微软雅黑"/>
                <a:ea typeface="微软雅黑"/>
              </a:rPr>
              <a:t>是当今国际贸易中的一种结算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指出口商利用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托收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发票、汇票、提单等有关单据无追索权地卖断给保理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立即或远期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一种方式。</a:t>
            </a:r>
            <a:endParaRPr b="0" lang="en-US" sz="2000" spc="-1" strike="noStrike">
              <a:solidFill>
                <a:srgbClr val="000000"/>
              </a:solidFill>
              <a:latin typeface="Verdana"/>
            </a:endParaRPr>
          </a:p>
        </p:txBody>
      </p:sp>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F5BA-F22B-4740-A120-64B4E9F7E1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概念与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9"/>
                                        </p:tgtEl>
                                        <p:attrNameLst>
                                          <p:attrName>style.visibility</p:attrName>
                                        </p:attrNameLst>
                                      </p:cBhvr>
                                      <p:to>
                                        <p:strVal val="visible"/>
                                      </p:to>
                                    </p:set>
                                    <p:animEffect filter="wipe(down)" transition="in">
                                      <p:cBhvr additive="repl">
                                        <p:cTn id="30" dur="25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326E-D5B2-422F-9C53-3FB75CD3963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的基本分类</a:t>
            </a:r>
            <a:endParaRPr b="0" lang="en-US" sz="2400" spc="-1" strike="noStrike">
              <a:solidFill>
                <a:srgbClr val="000000"/>
              </a:solidFill>
              <a:latin typeface="Verdana"/>
            </a:endParaRPr>
          </a:p>
        </p:txBody>
      </p:sp>
      <p:pic>
        <p:nvPicPr>
          <p:cNvPr id="182" name="图示 2" descr=""/>
          <p:cNvPicPr/>
          <p:nvPr/>
        </p:nvPicPr>
        <p:blipFill>
          <a:blip r:embed="rId1"/>
          <a:stretch/>
        </p:blipFill>
        <p:spPr>
          <a:xfrm>
            <a:off x="1990800" y="2635200"/>
            <a:ext cx="4707000" cy="3560760"/>
          </a:xfrm>
          <a:prstGeom prst="rect">
            <a:avLst/>
          </a:prstGeom>
          <a:ln w="0">
            <a:noFill/>
          </a:ln>
        </p:spPr>
      </p:pic>
      <p:sp>
        <p:nvSpPr>
          <p:cNvPr id="183" name="矩形 1"/>
          <p:cNvSpPr/>
          <p:nvPr/>
        </p:nvSpPr>
        <p:spPr>
          <a:xfrm>
            <a:off x="1042920" y="1673280"/>
            <a:ext cx="7058160" cy="411480"/>
          </a:xfrm>
          <a:prstGeom prst="rect">
            <a:avLst/>
          </a:prstGeom>
          <a:noFill/>
          <a:ln w="0">
            <a:noFill/>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仿宋"/>
                <a:ea typeface="仿宋"/>
              </a:rPr>
              <a:t>在现实运作之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业务有不同的操作方式</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而有多种类型。按照风险和责任的原则</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可以分为如下几种</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6" presetSubtype="21">
                                  <p:stCondLst>
                                    <p:cond delay="0"/>
                                  </p:stCondLst>
                                  <p:childTnLst>
                                    <p:set>
                                      <p:cBhvr>
                                        <p:cTn id="36" dur="1" fill="hold">
                                          <p:stCondLst>
                                            <p:cond delay="0"/>
                                          </p:stCondLst>
                                        </p:cTn>
                                        <p:tgtEl>
                                          <p:spTgt spid="181"/>
                                        </p:tgtEl>
                                        <p:attrNameLst>
                                          <p:attrName>style.visibility</p:attrName>
                                        </p:attrNameLst>
                                      </p:cBhvr>
                                      <p:to>
                                        <p:strVal val="visible"/>
                                      </p:to>
                                    </p:set>
                                    <p:animEffect filter="barn(inVertical)" transition="in">
                                      <p:cBhvr additive="repl">
                                        <p:cTn id="37" dur="250"/>
                                        <p:tgtEl>
                                          <p:spTgt spid="181"/>
                                        </p:tgtEl>
                                      </p:cBhvr>
                                    </p:animEffect>
                                  </p:childTnLst>
                                </p:cTn>
                              </p:par>
                              <p:par>
                                <p:cTn id="38" dur="indefinite" nodeType="withEffect" fill="hold" presetClass="entr" presetID="16" presetSubtype="21">
                                  <p:stCondLst>
                                    <p:cond delay="0"/>
                                  </p:stCondLst>
                                  <p:childTnLst>
                                    <p:set>
                                      <p:cBhvr>
                                        <p:cTn id="39" dur="1" fill="hold">
                                          <p:stCondLst>
                                            <p:cond delay="0"/>
                                          </p:stCondLst>
                                        </p:cTn>
                                        <p:tgtEl>
                                          <p:spTgt spid="182"/>
                                        </p:tgtEl>
                                        <p:attrNameLst>
                                          <p:attrName>style.visibility</p:attrName>
                                        </p:attrNameLst>
                                      </p:cBhvr>
                                      <p:to>
                                        <p:strVal val="visible"/>
                                      </p:to>
                                    </p:set>
                                    <p:animEffect filter="barn(inVertical)" transition="in">
                                      <p:cBhvr additive="repl">
                                        <p:cTn id="40" dur="250"/>
                                        <p:tgtEl>
                                          <p:spTgt spid="182"/>
                                        </p:tgtEl>
                                      </p:cBhvr>
                                    </p:animEffect>
                                  </p:childTnLst>
                                </p:cTn>
                              </p:par>
                              <p:par>
                                <p:cTn id="41" dur="indefinite" nodeType="withEffect" fill="hold" presetClass="entr" presetID="16" presetSubtype="21">
                                  <p:stCondLst>
                                    <p:cond delay="0"/>
                                  </p:stCondLst>
                                  <p:childTnLst>
                                    <p:set>
                                      <p:cBhvr>
                                        <p:cTn id="42" dur="1" fill="hold">
                                          <p:stCondLst>
                                            <p:cond delay="0"/>
                                          </p:stCondLst>
                                        </p:cTn>
                                        <p:tgtEl>
                                          <p:spTgt spid="183"/>
                                        </p:tgtEl>
                                        <p:attrNameLst>
                                          <p:attrName>style.visibility</p:attrName>
                                        </p:attrNameLst>
                                      </p:cBhvr>
                                      <p:to>
                                        <p:strVal val="visible"/>
                                      </p:to>
                                    </p:set>
                                    <p:animEffect filter="barn(inVertical)" transition="in">
                                      <p:cBhvr additive="repl">
                                        <p:cTn id="43" dur="25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3"/>
          <p:cNvSpPr/>
          <p:nvPr/>
        </p:nvSpPr>
        <p:spPr>
          <a:xfrm>
            <a:off x="538200" y="162864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保理业务</a:t>
            </a:r>
            <a:r>
              <a:rPr b="0" lang="zh-CN" sz="1800" spc="-1" strike="noStrike">
                <a:solidFill>
                  <a:srgbClr val="000000"/>
                </a:solidFill>
                <a:latin typeface="仿宋"/>
                <a:ea typeface="仿宋"/>
              </a:rPr>
              <a:t>(Factoring)</a:t>
            </a:r>
            <a:r>
              <a:rPr b="0" lang="zh-CN" sz="1800" spc="-1" strike="noStrike">
                <a:solidFill>
                  <a:srgbClr val="000000"/>
                </a:solidFill>
                <a:latin typeface="仿宋"/>
                <a:ea typeface="仿宋"/>
              </a:rPr>
              <a:t>又称承购应收账款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出口商以商业信用形式出卖商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货物装船后立即将发票、汇票、提单等有关单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断给承购应收账款的财务公司或专门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收进全部或一部分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而取得资金融通的业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其内容和特点是</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保理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称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担了信贷风险</a:t>
            </a:r>
            <a:r>
              <a:rPr b="0" lang="zh-CN" sz="1800" spc="-1" strike="noStrike">
                <a:solidFill>
                  <a:srgbClr val="000000"/>
                </a:solidFill>
                <a:latin typeface="仿宋"/>
                <a:ea typeface="仿宋"/>
              </a:rPr>
              <a:t>(Coverage of Credit Risks)</a:t>
            </a:r>
            <a:r>
              <a:rPr b="0" lang="zh-CN" sz="1800" spc="-1" strike="noStrike">
                <a:solidFill>
                  <a:srgbClr val="000000"/>
                </a:solidFill>
                <a:latin typeface="仿宋"/>
                <a:ea typeface="仿宋"/>
              </a:rPr>
              <a:t>。出口商将票据卖断给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就是说如果海外进口商拒付货款或不按期付款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购应收账款组织不能向出口商行使追索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全部风险由其承担。</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承购应收账款组织承担资信调查、托收、催收甚至代办会计处理手续。承购应收账款业务是一种广泛的、综合的服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预支货款</a:t>
            </a:r>
            <a:r>
              <a:rPr b="0" lang="zh-CN" sz="1800" spc="-1" strike="noStrike">
                <a:solidFill>
                  <a:srgbClr val="000000"/>
                </a:solidFill>
                <a:latin typeface="仿宋"/>
                <a:ea typeface="仿宋"/>
              </a:rPr>
              <a:t>(Advance Funds)</a:t>
            </a:r>
            <a:r>
              <a:rPr b="0" lang="zh-CN" sz="1800" spc="-1" strike="noStrike">
                <a:solidFill>
                  <a:srgbClr val="000000"/>
                </a:solidFill>
                <a:latin typeface="仿宋"/>
                <a:ea typeface="仿宋"/>
              </a:rPr>
              <a:t>。典型的承购应收账款业务是出口商在出卖单据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立即收到现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到资金融通。 </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6F84-F4DD-4931-B48D-FBAE38CA770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内容和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4"/>
                                        </p:tgtEl>
                                        <p:attrNameLst>
                                          <p:attrName>style.visibility</p:attrName>
                                        </p:attrNameLst>
                                      </p:cBhvr>
                                      <p:to>
                                        <p:strVal val="visible"/>
                                      </p:to>
                                    </p:set>
                                    <p:animEffect filter="barn(inVertical)" transition="in">
                                      <p:cBhvr additive="repl">
                                        <p:cTn id="50"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39:53Z</dcterms:modified>
  <cp:revision>1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5284F1081224B69BCB90B0017FC38E9</vt:lpwstr>
  </property>
  <property fmtid="{D5CDD505-2E9C-101B-9397-08002B2CF9AE}" pid="3" name="KSOProductBuildVer">
    <vt:lpwstr>2052-11.1.0.12598</vt:lpwstr>
  </property>
</Properties>
</file>